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A17-D0FC-4233-A0C0-4E08AAB1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64B-71BD-4151-97A6-14DAC09A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4FA-75F8-4E3A-B395-4213C9EF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146-CF91-4CCC-A795-034FC8F1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4CAA-884A-43F8-8F87-A56E54A5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AA0F-F5EB-4883-A905-8A96C53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636-D522-4BA6-B4B1-FD2923FB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315B-B08F-4939-985B-3F407700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6934-7BBA-4222-97C4-AE2960DE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2442-4177-49E2-957F-1E7D460D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2E73-6638-48A1-9840-0DEC146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B3A-4050-491F-AF02-635778D8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9651-40E0-4537-AE7A-EEE728E6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18C9-4C32-4799-9813-B97AEA58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0DDF-725B-4E12-95F9-8E9CB7CB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2C68-8858-4605-B9CB-FC67291D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6C7C-0184-486C-ACA5-7255E1AC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647-CCA5-4B36-BDCF-CD7EB954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39A-888C-4191-A143-F6DF3632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731-D37A-401F-B6D5-24DC2552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28B-1C59-409B-87FC-FD21F569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4A47-432F-4C8E-BEF8-D1D60082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985-95F5-4149-A840-437E75ED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D9E-C4B8-4D33-891C-8A236C10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6C2F-0084-419B-9E14-8CC9F959D598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>
                <a:alpha val="81176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3F89-D1B7-432D-929F-1F711DA2B4A5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062000" y="4889520"/>
            <a:ext cx="3062124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66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78760"/>
            <a:ext cx="32187960" cy="33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66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Orientador: 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u Orientadora:</a:t>
            </a:r>
            <a:r>
              <a:rPr b="0" lang="pt-BR" sz="5100" spc="-1" strike="noStrike">
                <a:solidFill>
                  <a:srgbClr val="000066"/>
                </a:solidFill>
                <a:latin typeface="Arial"/>
              </a:rPr>
              <a:t>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Superior Tecnológico - Ambiente e Saúde – Estética e Cosmética - Indianópolis (trata-se de um exemplo: cada aluno deve preencher com seus dados de curso e </a:t>
            </a:r>
            <a:r>
              <a:rPr b="0" i="1" lang="pt-BR" sz="5400" spc="-1" strike="noStrike">
                <a:solidFill>
                  <a:srgbClr val="000066"/>
                </a:solidFill>
                <a:latin typeface="Arial"/>
              </a:rPr>
              <a:t>campus</a:t>
            </a:r>
            <a:r>
              <a:rPr b="0" lang="pt-BR" sz="5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Apoio UNIP - Vice-Reitoria de Pós-Graduação e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66"/>
                </a:solidFill>
                <a:latin typeface="Arial"/>
              </a:rPr>
              <a:t>Pesquisa 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66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66"/>
                </a:solidFill>
                <a:latin typeface="Arial"/>
              </a:rPr>
              <a:t>: (de 03-três até 05-cinco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401840" y="1152360"/>
            <a:ext cx="75992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24Z</dcterms:modified>
  <cp:revision>182</cp:revision>
  <dc:subject/>
  <dc:title>Slide sem título</dc:title>
</cp:coreProperties>
</file>